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CBC7-43D4-4494-9704-B8902E138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407-8FA2-4E3D-AEC2-9CEE5231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9CD7-7407-43FE-A252-3965C12D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8B41-648E-4FC9-AEAD-34B2A0CB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ADE2-E0CE-4091-A965-6B58926C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535-8872-4BDD-9A30-625C4F39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C354-BD28-4D7A-8B8E-12AE0B5A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12D9-AEB6-4D4A-8A0C-3140A91A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0A3-640D-4D42-9798-D15657AA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19A1-E860-44AF-98BC-E206FDB4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F1A-B61B-44AF-AC66-F2814C8A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09B-76AB-47CF-875B-1A64A2A9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DFA4-6C99-4C7E-B725-2A717CC0F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</a:rPr>
              <a:t>Bun</a:t>
            </a:r>
            <a:r>
              <a:rPr b="1" lang="ro-RO" sz="6600" spc="-1" strike="noStrike">
                <a:solidFill>
                  <a:srgbClr val="ffff00"/>
                </a:solidFill>
                <a:latin typeface="Arial"/>
              </a:rPr>
              <a:t>ă ziua, copii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000" y="5373720"/>
            <a:ext cx="8351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Ajutaţi-ne să o găsim pe Albă ca Zăpad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rezolvând corect exerciţiile şi problemele următoa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Arial"/>
              </a:rPr>
              <a:t>Datorită vouă suntem iarăşi împreună! Vă mulţumim, copii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>
            <a:hlinkClick r:id="" action="ppaction://hlinkshowjump?jump=previousslide"/>
          </p:cNvPr>
          <p:cNvSpPr/>
          <p:nvPr/>
        </p:nvSpPr>
        <p:spPr>
          <a:xfrm>
            <a:off x="395280" y="5516640"/>
            <a:ext cx="1944720" cy="936720"/>
          </a:xfrm>
          <a:custGeom>
            <a:avLst/>
            <a:gdLst>
              <a:gd name="textAreaLeft" fmla="*/ 60480 w 1944720"/>
              <a:gd name="textAreaRight" fmla="*/ 1884240 w 194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44835" h="21600">
                <a:moveTo>
                  <a:pt x="0" y="0"/>
                </a:moveTo>
                <a:lnTo>
                  <a:pt x="44835" y="0"/>
                </a:lnTo>
                <a:lnTo>
                  <a:pt x="44835" y="21600"/>
                </a:lnTo>
                <a:lnTo>
                  <a:pt x="0" y="21600"/>
                </a:lnTo>
                <a:close/>
              </a:path>
              <a:path fill="lightenLess" w="44835" h="21600">
                <a:moveTo>
                  <a:pt x="0" y="0"/>
                </a:moveTo>
                <a:lnTo>
                  <a:pt x="44835" y="0"/>
                </a:lnTo>
                <a:lnTo>
                  <a:pt x="43435" y="1400"/>
                </a:lnTo>
                <a:lnTo>
                  <a:pt x="1400" y="1400"/>
                </a:lnTo>
                <a:close/>
              </a:path>
              <a:path fill="darken" w="44835" h="21600">
                <a:moveTo>
                  <a:pt x="44835" y="0"/>
                </a:moveTo>
                <a:lnTo>
                  <a:pt x="44835" y="21600"/>
                </a:lnTo>
                <a:lnTo>
                  <a:pt x="43435" y="20200"/>
                </a:lnTo>
                <a:lnTo>
                  <a:pt x="43435" y="1400"/>
                </a:lnTo>
                <a:close/>
              </a:path>
              <a:path fill="darkenLess" w="44835" h="21600">
                <a:moveTo>
                  <a:pt x="44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5" y="20200"/>
                </a:lnTo>
                <a:close/>
              </a:path>
              <a:path fill="lighten" w="44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835" h="21600">
                <a:moveTo>
                  <a:pt x="15411" y="7493"/>
                </a:moveTo>
                <a:lnTo>
                  <a:pt x="18918" y="7493"/>
                </a:lnTo>
                <a:lnTo>
                  <a:pt x="18918" y="12828"/>
                </a:lnTo>
                <a:cubicBezTo>
                  <a:pt x="18918" y="13751"/>
                  <a:pt x="19719" y="14482"/>
                  <a:pt x="20755" y="14482"/>
                </a:cubicBezTo>
                <a:lnTo>
                  <a:pt x="22417" y="14482"/>
                </a:lnTo>
                <a:cubicBezTo>
                  <a:pt x="23453" y="14482"/>
                  <a:pt x="24254" y="13751"/>
                  <a:pt x="24254" y="12828"/>
                </a:cubicBezTo>
                <a:lnTo>
                  <a:pt x="24254" y="7493"/>
                </a:lnTo>
                <a:lnTo>
                  <a:pt x="22417" y="7493"/>
                </a:lnTo>
                <a:lnTo>
                  <a:pt x="25925" y="3985"/>
                </a:lnTo>
                <a:lnTo>
                  <a:pt x="29598" y="7493"/>
                </a:lnTo>
                <a:lnTo>
                  <a:pt x="27761" y="7493"/>
                </a:lnTo>
                <a:lnTo>
                  <a:pt x="27761" y="12828"/>
                </a:lnTo>
                <a:cubicBezTo>
                  <a:pt x="27761" y="15596"/>
                  <a:pt x="25185" y="18155"/>
                  <a:pt x="22417" y="18155"/>
                </a:cubicBezTo>
                <a:lnTo>
                  <a:pt x="20755" y="18155"/>
                </a:lnTo>
                <a:cubicBezTo>
                  <a:pt x="17987" y="18155"/>
                  <a:pt x="15411" y="15596"/>
                  <a:pt x="15411" y="12828"/>
                </a:cubicBez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04640"/>
            <a:ext cx="3671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76720" y="907920"/>
            <a:ext cx="5329080" cy="5329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2565360"/>
            <a:ext cx="2519280" cy="1655640"/>
          </a:xfrm>
          <a:prstGeom prst="wedgeEllipseCallout">
            <a:avLst>
              <a:gd name="adj1" fmla="val 65250"/>
              <a:gd name="adj2" fmla="val 63708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Brav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84720" y="549360"/>
            <a:ext cx="4530600" cy="6697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620640"/>
            <a:ext cx="3095640" cy="1656000"/>
          </a:xfrm>
          <a:prstGeom prst="wedgeEllipseCallout">
            <a:avLst>
              <a:gd name="adj1" fmla="val 81537"/>
              <a:gd name="adj2" fmla="val 1548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Mai încearc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395280" y="5516640"/>
            <a:ext cx="1944720" cy="936720"/>
          </a:xfrm>
          <a:custGeom>
            <a:avLst/>
            <a:gdLst>
              <a:gd name="textAreaLeft" fmla="*/ 60480 w 1944720"/>
              <a:gd name="textAreaRight" fmla="*/ 1884240 w 194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44835" h="21600">
                <a:moveTo>
                  <a:pt x="0" y="0"/>
                </a:moveTo>
                <a:lnTo>
                  <a:pt x="44835" y="0"/>
                </a:lnTo>
                <a:lnTo>
                  <a:pt x="44835" y="21600"/>
                </a:lnTo>
                <a:lnTo>
                  <a:pt x="0" y="21600"/>
                </a:lnTo>
                <a:close/>
              </a:path>
              <a:path fill="lightenLess" w="44835" h="21600">
                <a:moveTo>
                  <a:pt x="0" y="0"/>
                </a:moveTo>
                <a:lnTo>
                  <a:pt x="44835" y="0"/>
                </a:lnTo>
                <a:lnTo>
                  <a:pt x="43435" y="1400"/>
                </a:lnTo>
                <a:lnTo>
                  <a:pt x="1400" y="1400"/>
                </a:lnTo>
                <a:close/>
              </a:path>
              <a:path fill="darken" w="44835" h="21600">
                <a:moveTo>
                  <a:pt x="44835" y="0"/>
                </a:moveTo>
                <a:lnTo>
                  <a:pt x="44835" y="21600"/>
                </a:lnTo>
                <a:lnTo>
                  <a:pt x="43435" y="20200"/>
                </a:lnTo>
                <a:lnTo>
                  <a:pt x="43435" y="1400"/>
                </a:lnTo>
                <a:close/>
              </a:path>
              <a:path fill="darkenLess" w="44835" h="21600">
                <a:moveTo>
                  <a:pt x="44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35" y="20200"/>
                </a:lnTo>
                <a:close/>
              </a:path>
              <a:path fill="lighten" w="44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835" h="21600">
                <a:moveTo>
                  <a:pt x="15411" y="7493"/>
                </a:moveTo>
                <a:lnTo>
                  <a:pt x="18918" y="7493"/>
                </a:lnTo>
                <a:lnTo>
                  <a:pt x="18918" y="12828"/>
                </a:lnTo>
                <a:cubicBezTo>
                  <a:pt x="18918" y="13751"/>
                  <a:pt x="19719" y="14482"/>
                  <a:pt x="20755" y="14482"/>
                </a:cubicBezTo>
                <a:lnTo>
                  <a:pt x="22417" y="14482"/>
                </a:lnTo>
                <a:cubicBezTo>
                  <a:pt x="23453" y="14482"/>
                  <a:pt x="24254" y="13751"/>
                  <a:pt x="24254" y="12828"/>
                </a:cubicBezTo>
                <a:lnTo>
                  <a:pt x="24254" y="7493"/>
                </a:lnTo>
                <a:lnTo>
                  <a:pt x="22417" y="7493"/>
                </a:lnTo>
                <a:lnTo>
                  <a:pt x="25925" y="3985"/>
                </a:lnTo>
                <a:lnTo>
                  <a:pt x="29598" y="7493"/>
                </a:lnTo>
                <a:lnTo>
                  <a:pt x="27761" y="7493"/>
                </a:lnTo>
                <a:lnTo>
                  <a:pt x="27761" y="12828"/>
                </a:lnTo>
                <a:cubicBezTo>
                  <a:pt x="27761" y="15596"/>
                  <a:pt x="25185" y="18155"/>
                  <a:pt x="22417" y="18155"/>
                </a:cubicBezTo>
                <a:lnTo>
                  <a:pt x="20755" y="18155"/>
                </a:lnTo>
                <a:cubicBezTo>
                  <a:pt x="17987" y="18155"/>
                  <a:pt x="15411" y="15596"/>
                  <a:pt x="15411" y="12828"/>
                </a:cubicBez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049640" y="620640"/>
            <a:ext cx="5094360" cy="6237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47628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57 + 32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611280" y="256536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lastslide"/>
          </p:cNvPr>
          <p:cNvSpPr/>
          <p:nvPr/>
        </p:nvSpPr>
        <p:spPr>
          <a:xfrm>
            <a:off x="2556000" y="256536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910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87280" y="47628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43 + 2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2771640" y="2492280"/>
            <a:ext cx="1440000" cy="1008000"/>
          </a:xfrm>
          <a:custGeom>
            <a:avLst/>
            <a:gdLst>
              <a:gd name="textAreaLeft" fmla="*/ 65160 w 1440000"/>
              <a:gd name="textAreaRight" fmla="*/ 1374840 w 1440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54" h="21600">
                <a:moveTo>
                  <a:pt x="0" y="0"/>
                </a:moveTo>
                <a:lnTo>
                  <a:pt x="30854" y="0"/>
                </a:lnTo>
                <a:lnTo>
                  <a:pt x="30854" y="21600"/>
                </a:lnTo>
                <a:lnTo>
                  <a:pt x="0" y="21600"/>
                </a:lnTo>
                <a:close/>
              </a:path>
              <a:path fill="lightenLess" w="30854" h="21600">
                <a:moveTo>
                  <a:pt x="0" y="0"/>
                </a:moveTo>
                <a:lnTo>
                  <a:pt x="30854" y="0"/>
                </a:lnTo>
                <a:lnTo>
                  <a:pt x="29454" y="1400"/>
                </a:lnTo>
                <a:lnTo>
                  <a:pt x="1400" y="1400"/>
                </a:lnTo>
                <a:close/>
              </a:path>
              <a:path fill="darken" w="30854" h="21600">
                <a:moveTo>
                  <a:pt x="30854" y="0"/>
                </a:moveTo>
                <a:lnTo>
                  <a:pt x="30854" y="21600"/>
                </a:lnTo>
                <a:lnTo>
                  <a:pt x="29454" y="20200"/>
                </a:lnTo>
                <a:lnTo>
                  <a:pt x="29454" y="1400"/>
                </a:lnTo>
                <a:close/>
              </a:path>
              <a:path fill="darkenLess" w="30854" h="21600">
                <a:moveTo>
                  <a:pt x="30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4" y="20200"/>
                </a:lnTo>
                <a:close/>
              </a:path>
              <a:path fill="lighten" w="30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lastslide"/>
          </p:cNvPr>
          <p:cNvSpPr/>
          <p:nvPr/>
        </p:nvSpPr>
        <p:spPr>
          <a:xfrm>
            <a:off x="826920" y="2492280"/>
            <a:ext cx="1440000" cy="1008000"/>
          </a:xfrm>
          <a:custGeom>
            <a:avLst/>
            <a:gdLst>
              <a:gd name="textAreaLeft" fmla="*/ 65160 w 1440000"/>
              <a:gd name="textAreaRight" fmla="*/ 1374840 w 1440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54" h="21600">
                <a:moveTo>
                  <a:pt x="0" y="0"/>
                </a:moveTo>
                <a:lnTo>
                  <a:pt x="30854" y="0"/>
                </a:lnTo>
                <a:lnTo>
                  <a:pt x="30854" y="21600"/>
                </a:lnTo>
                <a:lnTo>
                  <a:pt x="0" y="21600"/>
                </a:lnTo>
                <a:close/>
              </a:path>
              <a:path fill="lightenLess" w="30854" h="21600">
                <a:moveTo>
                  <a:pt x="0" y="0"/>
                </a:moveTo>
                <a:lnTo>
                  <a:pt x="30854" y="0"/>
                </a:lnTo>
                <a:lnTo>
                  <a:pt x="29454" y="1400"/>
                </a:lnTo>
                <a:lnTo>
                  <a:pt x="1400" y="1400"/>
                </a:lnTo>
                <a:close/>
              </a:path>
              <a:path fill="darken" w="30854" h="21600">
                <a:moveTo>
                  <a:pt x="30854" y="0"/>
                </a:moveTo>
                <a:lnTo>
                  <a:pt x="30854" y="21600"/>
                </a:lnTo>
                <a:lnTo>
                  <a:pt x="29454" y="20200"/>
                </a:lnTo>
                <a:lnTo>
                  <a:pt x="29454" y="1400"/>
                </a:lnTo>
                <a:close/>
              </a:path>
              <a:path fill="darkenLess" w="30854" h="21600">
                <a:moveTo>
                  <a:pt x="30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4" y="20200"/>
                </a:lnTo>
                <a:close/>
              </a:path>
              <a:path fill="lighten" w="30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104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00720" y="47628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79 - 27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lastslide"/>
          </p:cNvPr>
          <p:cNvSpPr/>
          <p:nvPr/>
        </p:nvSpPr>
        <p:spPr>
          <a:xfrm>
            <a:off x="5148360" y="242100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6877080" y="2421000"/>
            <a:ext cx="1440000" cy="1008000"/>
          </a:xfrm>
          <a:custGeom>
            <a:avLst/>
            <a:gdLst>
              <a:gd name="textAreaLeft" fmla="*/ 65160 w 1440000"/>
              <a:gd name="textAreaRight" fmla="*/ 1374840 w 1440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54" h="21600">
                <a:moveTo>
                  <a:pt x="0" y="0"/>
                </a:moveTo>
                <a:lnTo>
                  <a:pt x="30854" y="0"/>
                </a:lnTo>
                <a:lnTo>
                  <a:pt x="30854" y="21600"/>
                </a:lnTo>
                <a:lnTo>
                  <a:pt x="0" y="21600"/>
                </a:lnTo>
                <a:close/>
              </a:path>
              <a:path fill="lightenLess" w="30854" h="21600">
                <a:moveTo>
                  <a:pt x="0" y="0"/>
                </a:moveTo>
                <a:lnTo>
                  <a:pt x="30854" y="0"/>
                </a:lnTo>
                <a:lnTo>
                  <a:pt x="29454" y="1400"/>
                </a:lnTo>
                <a:lnTo>
                  <a:pt x="1400" y="1400"/>
                </a:lnTo>
                <a:close/>
              </a:path>
              <a:path fill="darken" w="30854" h="21600">
                <a:moveTo>
                  <a:pt x="30854" y="0"/>
                </a:moveTo>
                <a:lnTo>
                  <a:pt x="30854" y="21600"/>
                </a:lnTo>
                <a:lnTo>
                  <a:pt x="29454" y="20200"/>
                </a:lnTo>
                <a:lnTo>
                  <a:pt x="29454" y="1400"/>
                </a:lnTo>
                <a:close/>
              </a:path>
              <a:path fill="darkenLess" w="30854" h="21600">
                <a:moveTo>
                  <a:pt x="30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4" y="20200"/>
                </a:lnTo>
                <a:close/>
              </a:path>
              <a:path fill="lighten" w="30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22760" y="0"/>
            <a:ext cx="4521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47628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97 - 35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611280" y="256536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lastslide"/>
          </p:cNvPr>
          <p:cNvSpPr/>
          <p:nvPr/>
        </p:nvSpPr>
        <p:spPr>
          <a:xfrm>
            <a:off x="2556000" y="256536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697200" y="0"/>
            <a:ext cx="54468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549360"/>
            <a:ext cx="41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Aflaţi suma numerelor 67 şi 22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4365720"/>
            <a:ext cx="1440000" cy="1008000"/>
          </a:xfrm>
          <a:custGeom>
            <a:avLst/>
            <a:gdLst>
              <a:gd name="textAreaLeft" fmla="*/ 65160 w 1440000"/>
              <a:gd name="textAreaRight" fmla="*/ 1374840 w 1440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54" h="21600">
                <a:moveTo>
                  <a:pt x="0" y="0"/>
                </a:moveTo>
                <a:lnTo>
                  <a:pt x="30854" y="0"/>
                </a:lnTo>
                <a:lnTo>
                  <a:pt x="30854" y="21600"/>
                </a:lnTo>
                <a:lnTo>
                  <a:pt x="0" y="21600"/>
                </a:lnTo>
                <a:close/>
              </a:path>
              <a:path fill="lightenLess" w="30854" h="21600">
                <a:moveTo>
                  <a:pt x="0" y="0"/>
                </a:moveTo>
                <a:lnTo>
                  <a:pt x="30854" y="0"/>
                </a:lnTo>
                <a:lnTo>
                  <a:pt x="29454" y="1400"/>
                </a:lnTo>
                <a:lnTo>
                  <a:pt x="1400" y="1400"/>
                </a:lnTo>
                <a:close/>
              </a:path>
              <a:path fill="darken" w="30854" h="21600">
                <a:moveTo>
                  <a:pt x="30854" y="0"/>
                </a:moveTo>
                <a:lnTo>
                  <a:pt x="30854" y="21600"/>
                </a:lnTo>
                <a:lnTo>
                  <a:pt x="29454" y="20200"/>
                </a:lnTo>
                <a:lnTo>
                  <a:pt x="29454" y="1400"/>
                </a:lnTo>
                <a:close/>
              </a:path>
              <a:path fill="darkenLess" w="30854" h="21600">
                <a:moveTo>
                  <a:pt x="30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4" y="20200"/>
                </a:lnTo>
                <a:close/>
              </a:path>
              <a:path fill="lighten" w="30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lastslide"/>
          </p:cNvPr>
          <p:cNvSpPr/>
          <p:nvPr/>
        </p:nvSpPr>
        <p:spPr>
          <a:xfrm>
            <a:off x="2556000" y="436572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11520" y="620640"/>
            <a:ext cx="4632480" cy="6237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549360"/>
            <a:ext cx="41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Aflaţi diferenţa numerelor 65 şi 34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lastslide"/>
          </p:cNvPr>
          <p:cNvSpPr/>
          <p:nvPr/>
        </p:nvSpPr>
        <p:spPr>
          <a:xfrm>
            <a:off x="611280" y="443700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56000" y="443700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549360"/>
            <a:ext cx="590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Albă ca Zăpada a făcut 75 de prăjiturele. Eu am mâncat 23 de prăjiturele. Câte prăjiturele au rămas pentru ceilalţi pitic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lastslide"/>
          </p:cNvPr>
          <p:cNvSpPr/>
          <p:nvPr/>
        </p:nvSpPr>
        <p:spPr>
          <a:xfrm>
            <a:off x="3419640" y="4221000"/>
            <a:ext cx="1439640" cy="100836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30835" h="21600">
                <a:moveTo>
                  <a:pt x="0" y="0"/>
                </a:moveTo>
                <a:lnTo>
                  <a:pt x="30835" y="0"/>
                </a:lnTo>
                <a:lnTo>
                  <a:pt x="30835" y="21600"/>
                </a:lnTo>
                <a:lnTo>
                  <a:pt x="0" y="21600"/>
                </a:lnTo>
                <a:close/>
              </a:path>
              <a:path fill="lightenLess" w="30835" h="21600">
                <a:moveTo>
                  <a:pt x="0" y="0"/>
                </a:moveTo>
                <a:lnTo>
                  <a:pt x="30835" y="0"/>
                </a:lnTo>
                <a:lnTo>
                  <a:pt x="29435" y="1400"/>
                </a:lnTo>
                <a:lnTo>
                  <a:pt x="1400" y="1400"/>
                </a:lnTo>
                <a:close/>
              </a:path>
              <a:path fill="darken" w="30835" h="21600">
                <a:moveTo>
                  <a:pt x="30835" y="0"/>
                </a:moveTo>
                <a:lnTo>
                  <a:pt x="30835" y="21600"/>
                </a:lnTo>
                <a:lnTo>
                  <a:pt x="29435" y="20200"/>
                </a:lnTo>
                <a:lnTo>
                  <a:pt x="29435" y="1400"/>
                </a:lnTo>
                <a:close/>
              </a:path>
              <a:path fill="darkenLess" w="30835" h="21600">
                <a:moveTo>
                  <a:pt x="30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5" y="20200"/>
                </a:lnTo>
                <a:close/>
              </a:path>
              <a:path fill="lighten" w="30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4221000"/>
            <a:ext cx="1440000" cy="1008360"/>
          </a:xfrm>
          <a:custGeom>
            <a:avLst/>
            <a:gdLst>
              <a:gd name="textAreaLeft" fmla="*/ 65160 w 1440000"/>
              <a:gd name="textAreaRight" fmla="*/ 1374840 w 144000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30843" h="21600">
                <a:moveTo>
                  <a:pt x="0" y="0"/>
                </a:moveTo>
                <a:lnTo>
                  <a:pt x="30843" y="0"/>
                </a:lnTo>
                <a:lnTo>
                  <a:pt x="30843" y="21600"/>
                </a:lnTo>
                <a:lnTo>
                  <a:pt x="0" y="21600"/>
                </a:lnTo>
                <a:close/>
              </a:path>
              <a:path fill="lightenLess" w="30843" h="21600">
                <a:moveTo>
                  <a:pt x="0" y="0"/>
                </a:moveTo>
                <a:lnTo>
                  <a:pt x="30843" y="0"/>
                </a:lnTo>
                <a:lnTo>
                  <a:pt x="29443" y="1400"/>
                </a:lnTo>
                <a:lnTo>
                  <a:pt x="1400" y="1400"/>
                </a:lnTo>
                <a:close/>
              </a:path>
              <a:path fill="darken" w="30843" h="21600">
                <a:moveTo>
                  <a:pt x="30843" y="0"/>
                </a:moveTo>
                <a:lnTo>
                  <a:pt x="30843" y="21600"/>
                </a:lnTo>
                <a:lnTo>
                  <a:pt x="29443" y="20200"/>
                </a:lnTo>
                <a:lnTo>
                  <a:pt x="29443" y="1400"/>
                </a:lnTo>
                <a:close/>
              </a:path>
              <a:path fill="darkenLess" w="30843" h="21600">
                <a:moveTo>
                  <a:pt x="30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3" y="20200"/>
                </a:lnTo>
                <a:close/>
              </a:path>
              <a:path fill="lighten" w="30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2670120"/>
            <a:ext cx="7596000" cy="4187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680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Ieri am scos din mină 42 de diamante, iar azi 5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Câte diamante avem în to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33336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lastslide"/>
          </p:cNvPr>
          <p:cNvSpPr/>
          <p:nvPr/>
        </p:nvSpPr>
        <p:spPr>
          <a:xfrm>
            <a:off x="7093080" y="1628640"/>
            <a:ext cx="1439640" cy="100836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30835" h="21600">
                <a:moveTo>
                  <a:pt x="0" y="0"/>
                </a:moveTo>
                <a:lnTo>
                  <a:pt x="30835" y="0"/>
                </a:lnTo>
                <a:lnTo>
                  <a:pt x="30835" y="21600"/>
                </a:lnTo>
                <a:lnTo>
                  <a:pt x="0" y="21600"/>
                </a:lnTo>
                <a:close/>
              </a:path>
              <a:path fill="lightenLess" w="30835" h="21600">
                <a:moveTo>
                  <a:pt x="0" y="0"/>
                </a:moveTo>
                <a:lnTo>
                  <a:pt x="30835" y="0"/>
                </a:lnTo>
                <a:lnTo>
                  <a:pt x="29435" y="1400"/>
                </a:lnTo>
                <a:lnTo>
                  <a:pt x="1400" y="1400"/>
                </a:lnTo>
                <a:close/>
              </a:path>
              <a:path fill="darken" w="30835" h="21600">
                <a:moveTo>
                  <a:pt x="30835" y="0"/>
                </a:moveTo>
                <a:lnTo>
                  <a:pt x="30835" y="21600"/>
                </a:lnTo>
                <a:lnTo>
                  <a:pt x="29435" y="20200"/>
                </a:lnTo>
                <a:lnTo>
                  <a:pt x="29435" y="1400"/>
                </a:lnTo>
                <a:close/>
              </a:path>
              <a:path fill="darkenLess" w="30835" h="21600">
                <a:moveTo>
                  <a:pt x="308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5" y="20200"/>
                </a:lnTo>
                <a:close/>
              </a:path>
              <a:path fill="lighten" w="308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1:35:49Z</dcterms:created>
  <dc:creator>Liliana</dc:creator>
  <dc:description/>
  <dc:language>en-US</dc:language>
  <cp:lastModifiedBy>IULIA</cp:lastModifiedBy>
  <dcterms:modified xsi:type="dcterms:W3CDTF">2009-11-26T16:04:08Z</dcterms:modified>
  <cp:revision>3</cp:revision>
  <dc:subject/>
  <dc:title>Bună ziua, copii!</dc:title>
</cp:coreProperties>
</file>